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43DF-91D5-492B-82FB-66B68A7C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26B0-8614-4158-A37A-284448C6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8E98-FBC2-4E28-9499-DB11AD5E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3B40-93AA-4453-B7D0-FB0EC980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8204-1867-42B5-A081-C285E870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8DA5-58F8-4CE9-95B7-F957373F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1B05-CA59-4E09-917E-A2957B59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B9C8-A629-40DC-AAFD-ADB31E90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EED5-4D04-4AFE-979B-AD962BAC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FEDC-EAD7-4E18-830C-A676C9A4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6CA3-2FDF-4350-944C-26DCFDBB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DE6F-294F-4850-8462-CDF7E181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3C79-48A7-4E55-B1DC-31D2FF67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AD91-A51C-4412-8E33-AFCB70C8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92ED-F55A-4AF4-A7E8-F7D17B3A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8E08-EFCA-437C-959E-1B2089E7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F1ED-C29B-4E8E-A623-E79A4BD8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102B-9034-49C5-9610-756C4689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2D44-958F-416B-9DAE-7A4AABA4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A434-E29E-499F-9F2F-333F4DD7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7DB9-1590-49EE-9227-26C8E2B2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E1E9-612F-48B6-A0D8-0F88F96D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31CB-1A14-49F5-960E-87277DFF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3692-38FE-4163-92A9-364F0DC8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CDCE-864F-41B4-B0B9-0A426F5456B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4DA3-065D-4906-9035-0865CAE9DF2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cc"/>
                </a:solidFill>
                <a:latin typeface="Verdana"/>
              </a:rPr>
              <a:t>В</a:t>
            </a:r>
            <a:r>
              <a:rPr b="1" lang="tt-RU" sz="3500" spc="-1" strike="noStrike">
                <a:solidFill>
                  <a:srgbClr val="0000cc"/>
                </a:solidFill>
                <a:latin typeface="Verdana"/>
              </a:rPr>
              <a:t>неклассное мероприятие,</a:t>
            </a:r>
            <a:br>
              <a:rPr sz="3500"/>
            </a:br>
            <a:r>
              <a:rPr b="1" lang="tt-RU" sz="3500" spc="-1" strike="noStrike">
                <a:solidFill>
                  <a:srgbClr val="0000cc"/>
                </a:solidFill>
                <a:latin typeface="Verdana"/>
              </a:rPr>
              <a:t> посвященное </a:t>
            </a:r>
            <a:r>
              <a:rPr b="1" lang="ru-RU" sz="3500" spc="-1" strike="noStrike">
                <a:solidFill>
                  <a:srgbClr val="0000cc"/>
                </a:solidFill>
                <a:latin typeface="Verdana"/>
              </a:rPr>
              <a:t>государственным и народным праздникам России и Татарстана</a:t>
            </a: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5039280"/>
            <a:ext cx="346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Times New Roman"/>
              </a:rPr>
              <a:t>Распутина Н.Г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Times New Roman"/>
              </a:rPr>
              <a:t>классный руководитель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Times New Roman"/>
              </a:rPr>
              <a:t>11Б класса</a:t>
            </a:r>
            <a:r>
              <a:rPr b="0" lang="tt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140360" y="4941720"/>
            <a:ext cx="50036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43000" y="-72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ffff"/>
                </a:solidFill>
                <a:latin typeface="Verdana"/>
              </a:rPr>
              <a:t>День народного единств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580000" y="4221000"/>
            <a:ext cx="3564000" cy="2637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580000" y="0"/>
            <a:ext cx="3564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580000" y="2492280"/>
            <a:ext cx="4000680" cy="2886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-108000" y="2421000"/>
            <a:ext cx="3216240" cy="2781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484360" y="0"/>
            <a:ext cx="4229280" cy="4500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3132000" y="4129200"/>
            <a:ext cx="24480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16360" y="6021000"/>
            <a:ext cx="476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Старый новый год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47320" y="6130080"/>
            <a:ext cx="496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ffff"/>
                </a:solidFill>
                <a:latin typeface="Times New Roman"/>
              </a:rPr>
              <a:t>День Святого Валентина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067280" y="115200"/>
            <a:ext cx="64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ffff"/>
                </a:solidFill>
                <a:latin typeface="Verdana"/>
              </a:rPr>
              <a:t>Всероссийский день семьи,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t-RU" sz="2400" spc="-1" strike="noStrike">
                <a:solidFill>
                  <a:srgbClr val="ffffff"/>
                </a:solidFill>
                <a:latin typeface="Verdana"/>
              </a:rPr>
              <a:t>любви и верности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246640" y="187560"/>
            <a:ext cx="38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ffff"/>
                </a:solidFill>
                <a:latin typeface="Verdana"/>
              </a:rPr>
              <a:t>Международный день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ffff"/>
                </a:solidFill>
                <a:latin typeface="Verdana"/>
              </a:rPr>
              <a:t>пожилых людей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35520" y="143280"/>
            <a:ext cx="35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ffff"/>
                </a:solidFill>
                <a:latin typeface="Verdana"/>
              </a:rPr>
              <a:t>День матери Росси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67720" y="209520"/>
            <a:ext cx="7803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ffff00"/>
                </a:solidFill>
                <a:latin typeface="Verdana"/>
              </a:rPr>
              <a:t>Праздник — торжественный день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ffff00"/>
                </a:solidFill>
                <a:latin typeface="Verdana"/>
              </a:rPr>
              <a:t>в честь кого-нибудь или чего-нибудь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tt-RU" sz="2800" spc="-1" strike="noStrike">
                <a:solidFill>
                  <a:srgbClr val="ffff00"/>
                </a:solidFill>
                <a:latin typeface="Verdana"/>
              </a:rPr>
              <a:t>сопровождающийся отдыхом, застольями,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800" spc="-1" strike="noStrike">
                <a:solidFill>
                  <a:srgbClr val="ffff00"/>
                </a:solidFill>
                <a:latin typeface="Verdana"/>
              </a:rPr>
              <a:t>развлекательными мероприятиями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>
            <a:off x="2898720" y="6021000"/>
            <a:ext cx="37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Verdana"/>
              </a:rPr>
              <a:t>Праздник Пасха</a:t>
            </a:r>
            <a:r>
              <a:rPr b="0" lang="ru-RU" sz="3600" spc="-1" strike="noStrike">
                <a:solidFill>
                  <a:srgbClr val="0000cc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619280" y="333360"/>
            <a:ext cx="71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Verdana"/>
              </a:rPr>
              <a:t>Праздники - неизменные спутники народной жизни.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Verdana"/>
              </a:rPr>
              <a:t>Праздники для нас - это возможность доставить радость близким!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Verdana"/>
              </a:rPr>
              <a:t>Праздник - не календарное понятие. Праздник происходит там, где его чувствуют, где его ждут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924360" y="5373720"/>
            <a:ext cx="4681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Times New Roman"/>
              </a:rPr>
              <a:t>С праздником!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Адреса использованных   материалов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http://images.yandex.ru/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1258920" y="299736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643280" y="58352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0000d6"/>
                </a:solidFill>
                <a:latin typeface="Verdana"/>
              </a:rPr>
              <a:t>Новый год</a:t>
            </a:r>
            <a:r>
              <a:rPr b="1" lang="ru-RU" sz="3600" spc="-1" strike="noStrike">
                <a:solidFill>
                  <a:srgbClr val="0000d6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90760" y="267840"/>
            <a:ext cx="52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Verdana"/>
              </a:rPr>
              <a:t>Рождество Христово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236000" y="4724280"/>
            <a:ext cx="1908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40840" y="-10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6699"/>
                </a:solidFill>
                <a:latin typeface="Verdana"/>
              </a:rPr>
              <a:t>Международный женский день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75840" y="143280"/>
            <a:ext cx="41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ffff"/>
                </a:solidFill>
                <a:latin typeface="Verdana"/>
              </a:rPr>
              <a:t>Праздник весны и труда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013800" y="6089040"/>
            <a:ext cx="27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6699"/>
                </a:solidFill>
                <a:latin typeface="Verdana"/>
              </a:rPr>
              <a:t>День Победы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5:31:23Z</dcterms:created>
  <dc:creator>Пользователь</dc:creator>
  <dc:description/>
  <dc:language>en-US</dc:language>
  <cp:lastModifiedBy>Пользователь</cp:lastModifiedBy>
  <dcterms:modified xsi:type="dcterms:W3CDTF">2011-05-03T12:59:39Z</dcterms:modified>
  <cp:revision>4</cp:revision>
  <dc:subject/>
  <dc:title>Слайд 1</dc:title>
</cp:coreProperties>
</file>